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68C-3CF7-4D9C-A5B7-D5D305815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E8BE-1463-4E2A-85B3-D3341DC95A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FAC-4481-4E44-B2FB-61E10F8A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43A-0EAC-4E2B-97DB-3FA6A8D4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C4A-EEBD-4AA9-879C-DB58AA4E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F41-0561-437C-B3B7-D0853EC0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8E24-C188-4197-9673-0D25B099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BC69-20C0-4761-9329-E0C3126F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760B-4784-4566-85D7-15E1A14E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E939-1B76-467B-81AF-7CF50AB2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2138-5037-4236-8476-99736B3A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D420-3022-41F2-9D07-ADFDA8DA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56DD-4C78-4FEE-BC76-4ECECB14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9A9-C4A1-4333-AE95-6CAAD3F3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F823-2561-4CDD-8737-9D7A42B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03D0-7F17-4CC4-BC12-8523B310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7434-02BA-4EE1-9207-32B05531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BFCF-4D03-48A4-8AA3-2C80B89C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AF0F-DAF6-47FD-BC13-10A7A7B2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F970-1258-4A4C-9E07-8E1254BF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0D2C-BE8B-4718-B4A0-6213C0F3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B54A-8ED6-4AAD-A99A-E210945E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DCC0-097B-4B85-99B9-31DE2B6E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D575F-052B-4B7C-B7C0-E5743E43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5EE-325D-4508-AC9D-D7BA8A24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8271-2C61-4684-9B8C-31542D5D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6994-51B6-4A0B-8E28-8E86FE25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5A28-DC9E-4D3D-8C17-A3F1B5AB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FA20-1120-4E31-AF22-F09F015E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17C8-5F22-43E8-B10B-FA691868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7248-E77E-45C1-A403-45A37963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5496-6253-4FF3-A4C1-607F1C88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0FB08-FB86-4E6B-B539-5FEC1995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8BF3-A11B-45AD-B1BB-D70E0B86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FA3AF-4ED0-41A4-8C13-17D5EA21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F8D-325F-4615-BF2C-8DFDD6AF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5637-C933-4747-B239-EA3922D9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CBF5-54EA-4350-A52A-872C0DC1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BD623-926B-4A27-ABE9-C61919BE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18166-80BC-4A87-918E-78FB20AC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0DEF8-6490-4E1F-82BC-FA72038C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6FED8-BE13-42B4-8325-3B6E91A3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0A569-948D-4E99-8101-11B04904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D599-EAED-4998-B5C3-96B3B5A3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7775-3824-446A-B0DA-9FDC703A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3F0-A90D-4856-A3DB-845C74D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6C1-9EBB-4695-BD86-D5B2F715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4BE-C28D-4CBE-87D6-8DBD43E7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BA3-980E-4BC3-B23B-9080BD05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3AD-4963-4850-BE79-C11B389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8589-E7D3-486B-9CE9-386870F6DE37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9BE2-A4D9-43DA-A1E1-863CD58800A0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239A-57E0-43B4-BCB4-BC1EDE3A3E04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8469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578A-86A7-4611-B615-F2F73CCDA4F6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wu.edu/~darwin/BiSc150/One/rose.GIF&amp;imgrefurl=http://www.gwu.edu/~darwin/BiSc150/One/genetics.htm&amp;usg=__neYJZqJeUmRWUrwdQVsn5Io473I=&amp;h=496&amp;w=688&amp;sz=15&amp;hl=en&amp;start=4&amp;tbnid=954S_ci5gz2v5M:&amp;tbnh=100&amp;tbnw=139&amp;prev=/images?q=incomplete+dominance&amp;gbv=2&amp;hl=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Notes: NonMendelian Genetics </a:t>
            </a:r>
            <a:br>
              <a:rPr sz="6600"/>
            </a:br>
            <a:r>
              <a:rPr b="0" lang="en-US" sz="4700" spc="-1" strike="noStrike">
                <a:solidFill>
                  <a:srgbClr val="ffffff"/>
                </a:solidFill>
                <a:latin typeface="Century Schoolbook"/>
              </a:rPr>
              <a:t>(Beyond Dominant &amp; Recessive Alleles)</a:t>
            </a:r>
            <a:endParaRPr b="0" lang="en-US" sz="4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olygenic Trai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ly = many, genic = ge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trait controlled by more than two gen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how a wide range of phenotyp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. Human skin co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ore capital letters = more pigmentation (darker color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ives a bell-shaped curve on a grap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skin"/>
          <p:cNvPicPr/>
          <p:nvPr/>
        </p:nvPicPr>
        <p:blipFill>
          <a:blip r:embed="rId1"/>
          <a:stretch/>
        </p:blipFill>
        <p:spPr>
          <a:xfrm>
            <a:off x="228600" y="1676520"/>
            <a:ext cx="39402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eight"/>
          <p:cNvPicPr/>
          <p:nvPr/>
        </p:nvPicPr>
        <p:blipFill>
          <a:blip r:embed="rId2"/>
          <a:stretch/>
        </p:blipFill>
        <p:spPr>
          <a:xfrm>
            <a:off x="4419720" y="2825640"/>
            <a:ext cx="4305240" cy="33274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0"/>
          <p:cNvSpPr/>
          <p:nvPr/>
        </p:nvSpPr>
        <p:spPr>
          <a:xfrm>
            <a:off x="990720" y="10666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 skin co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638680" y="22860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 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complete Dominanc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e allele is not completely dominant over another allel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eterozygous genotype is a blend of the 2 homozygous genotyp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d-flower (RR) x White flower (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 = Pink flower (R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0" name="Picture 5" descr="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67440" y="4800600"/>
            <a:ext cx="30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punnett1"/>
          <p:cNvPicPr/>
          <p:nvPr/>
        </p:nvPicPr>
        <p:blipFill>
          <a:blip r:embed="rId1"/>
          <a:stretch/>
        </p:blipFill>
        <p:spPr>
          <a:xfrm>
            <a:off x="2743200" y="2286000"/>
            <a:ext cx="3705120" cy="3333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Red (RR) x White (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743200" y="1752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057400" y="2590920"/>
            <a:ext cx="609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724280" y="28954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124080" y="28954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048120" y="457200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876920" y="455940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dominanc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656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oth alleles contribute to the phenotyp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eterozygous phenotype shows both alleles separatel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lack chicken (BB) x White chicken (WW) = Black and White spotted chicken (BW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1" name="Picture 5" descr="plyrockbantam_white_m_200"/>
          <p:cNvPicPr/>
          <p:nvPr/>
        </p:nvPicPr>
        <p:blipFill>
          <a:blip r:embed="rId1"/>
          <a:stretch/>
        </p:blipFill>
        <p:spPr>
          <a:xfrm>
            <a:off x="11430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hicken"/>
          <p:cNvPicPr/>
          <p:nvPr/>
        </p:nvPicPr>
        <p:blipFill>
          <a:blip r:embed="rId2"/>
          <a:stretch/>
        </p:blipFill>
        <p:spPr>
          <a:xfrm>
            <a:off x="3605040" y="4952880"/>
            <a:ext cx="1513080" cy="175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scotsdumpyla"/>
          <p:cNvPicPr/>
          <p:nvPr/>
        </p:nvPicPr>
        <p:blipFill>
          <a:blip r:embed="rId3"/>
          <a:stretch/>
        </p:blipFill>
        <p:spPr>
          <a:xfrm>
            <a:off x="5791320" y="4952880"/>
            <a:ext cx="167616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hite chicken (WW) x Black chicken (BB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5" name="Picture 4" descr="punnett1"/>
          <p:cNvPicPr/>
          <p:nvPr/>
        </p:nvPicPr>
        <p:blipFill>
          <a:blip r:embed="rId1"/>
          <a:stretch/>
        </p:blipFill>
        <p:spPr>
          <a:xfrm>
            <a:off x="2514600" y="2197080"/>
            <a:ext cx="3705120" cy="3336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124080" y="1600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133720" y="2590920"/>
            <a:ext cx="5331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97180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80060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895480" y="4433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724280" y="4433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0440" y="-19080"/>
            <a:ext cx="7270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ultiple Allel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trait controlled by only 2 alleles, yet more than 2 alleles for that trait exist in a popul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. Rabbit coat colo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= full color; dominant to all other alle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chinchilla; dominant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and c alle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himalayan; dominant to c alle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= albino; recessive to all other allel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an example: Blood typ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image002"/>
          <p:cNvPicPr/>
          <p:nvPr/>
        </p:nvPicPr>
        <p:blipFill>
          <a:blip r:embed="rId1"/>
          <a:stretch/>
        </p:blipFill>
        <p:spPr>
          <a:xfrm>
            <a:off x="914400" y="914400"/>
            <a:ext cx="715968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graphic element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graphic element"/>
          <p:cNvPicPr/>
          <p:nvPr/>
        </p:nvPicPr>
        <p:blipFill>
          <a:blip r:embed="rId1"/>
          <a:stretch/>
        </p:blipFill>
        <p:spPr>
          <a:xfrm>
            <a:off x="457200" y="2057400"/>
            <a:ext cx="8001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0:20Z</dcterms:created>
  <dc:creator>Zebulon Holsopple</dc:creator>
  <dc:description/>
  <cp:keywords/>
  <dc:language>en-US</dc:language>
  <cp:lastModifiedBy>Geneva Jost</cp:lastModifiedBy>
  <dcterms:modified xsi:type="dcterms:W3CDTF">2017-02-11T15:14:02Z</dcterms:modified>
  <cp:revision>17</cp:revision>
  <dc:subject>Biology I Honors</dc:subject>
  <dc:title>3.2.2_Notes_NonMendelianGenetics</dc:title>
</cp:coreProperties>
</file>